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X7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22.04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610240" y="123840"/>
            <a:ext cx="250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ldhoff/Barner, PL-Ts Min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os Status:    DS shifted by 2 wee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9320" y="1092240"/>
            <a:ext cx="7115400" cy="313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ject Status, Timeline, Mileston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2-Tape Out (B2-TO) is further shifted by two week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&gt; Impact:   DS shifted by two weeks – new date is (29.09.05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ason and consequences of shifting B2-TapeOu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1+ evaluation as input for B2-TO couldn’t be finished due to missing B1+ SW cont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vailability of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2 reference devices 2 weeks too late for starting Type Approval on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2 weeks delay of TA causes also 2 weeks delay of 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econditions to prevent additional delay of 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 delivery (Ver. 36.3) from today 22.04.05 includes all missing B1+ featur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2 SW for prototype run available latest on 20.05.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SW maturity for start of TA pre-tests not later than CW21 (S25-SW-TA freez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65240" y="2135160"/>
            <a:ext cx="363600" cy="1038240"/>
            <a:chOff x="1065240" y="2135160"/>
            <a:chExt cx="363600" cy="1038240"/>
          </a:xfrm>
        </p:grpSpPr>
        <p:sp>
          <p:nvSpPr>
            <p:cNvPr id="91" name=""/>
            <p:cNvSpPr/>
            <p:nvPr/>
          </p:nvSpPr>
          <p:spPr>
            <a:xfrm rot="5400000">
              <a:off x="727560" y="2472480"/>
              <a:ext cx="1038240" cy="363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5400000">
              <a:off x="1143720" y="2218320"/>
              <a:ext cx="20484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1143720" y="2223000"/>
              <a:ext cx="204840" cy="200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1144080" y="2894760"/>
              <a:ext cx="20448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1150920" y="2565000"/>
              <a:ext cx="20484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90440" y="25099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00" y="4649760"/>
            <a:ext cx="1851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last wee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49680" y="5778360"/>
            <a:ext cx="1709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62280" y="4327560"/>
            <a:ext cx="7157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os: Status of SW deliv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7040" y="1168560"/>
            <a:ext cx="7342200" cy="206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ject Status, M1 SW planning compared with current SW statu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 maturity for B1+ run (some major topics) delayed by 10 weeks (according to HW-to-SW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requirement-list of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1+ evaluation as input for B2-TO couldn’t be finished due to missing B1+ SW cont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 maturity for B2 (SIP8) according to HW-to-SW-requ.-list of M1 delayed by 4 wee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econditions to prevent additional delay of 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 delivery (Ver. 36.3) from 22.04.05 includes all missing B1+ featur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27080" y="1735200"/>
            <a:ext cx="363600" cy="1038240"/>
            <a:chOff x="1027080" y="1735200"/>
            <a:chExt cx="363600" cy="1038240"/>
          </a:xfrm>
        </p:grpSpPr>
        <p:sp>
          <p:nvSpPr>
            <p:cNvPr id="103" name=""/>
            <p:cNvSpPr/>
            <p:nvPr/>
          </p:nvSpPr>
          <p:spPr>
            <a:xfrm rot="5400000">
              <a:off x="689400" y="2072520"/>
              <a:ext cx="1038240" cy="363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105560" y="1818360"/>
              <a:ext cx="20484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105560" y="1823040"/>
              <a:ext cx="204840" cy="200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1105920" y="2494800"/>
              <a:ext cx="204480" cy="20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1112760" y="2165040"/>
              <a:ext cx="20484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2280" y="210996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680" y="3726000"/>
            <a:ext cx="13842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M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5664240"/>
            <a:ext cx="129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4.0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000" y="4692600"/>
            <a:ext cx="1384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.03.0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55600" y="3414600"/>
            <a:ext cx="7899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cp:lastPrinted>1900-12-31T22:00:00Z</cp:lastPrinted>
  <dcterms:modified xsi:type="dcterms:W3CDTF">2005-04-22T13:05:03Z</dcterms:modified>
  <cp:revision>18</cp:revision>
  <dc:subject/>
  <dc:title>Minos Status:    Timeline until DS 15.09.05 critic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1048655</vt:r8>
  </property>
</Properties>
</file>